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3CCC-D076-4696-A054-4634B632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57E-969F-4AC8-B891-3979E730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44E-7A09-45A1-B052-B034B055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5BE1-F1AE-4DB7-8407-33F04948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B362-00A5-44F5-BFA6-430F743A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84BA-ABA0-47CA-92EE-2DD76365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671D-3EC1-4DE6-A407-72BA666B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8D2B-2CAE-4FDE-A961-7D450621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894F-C29E-450C-BDCA-3B682A78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10D9-A544-4ABD-8E65-CAA567E0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1155-B81D-448C-BDC5-7CE79230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81C-7113-4346-BE92-EDB014FB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7731-8503-4CB4-A517-9D69CC94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AC8A-E012-403C-B4C2-BE8886A1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F6C3-E263-49A0-9495-5C257571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398E-894F-45F5-80FA-4EE7E20F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19D4-E0CA-452B-B11C-10379A35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DB4-A0B0-4D3A-A23A-BEACE63E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742-6828-412E-A475-0BDA93C5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6F6F-C818-43A0-A1A9-D9E354D4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DFE-E6B3-4B48-979E-9E0665C1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AE5-EF39-45D1-999E-C649F725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AE12-DA60-45A8-B2CE-40EEC450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F6E-8B6A-4F9F-ABFE-411C20DA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F8B80-EA4F-422A-8CE7-BD86DEB86C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920E1-8634-464D-9911-A3AB2CB26F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1143000" y="16765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rial Peripheral Interfa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 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ranjan Ram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hael St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an Tikhon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219320" y="3808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ock Phase (Advanced)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1182600" y="2017800"/>
            <a:ext cx="77724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hases and two polarities of c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ter and selected slave must be in same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ter must change polarity and phase to communicate with slaves of different nu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ming Diagra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692000" y="5334120"/>
            <a:ext cx="576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Diagram – Showing Clock polarities and pha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ttp://www.maxim-ic.com.cn/images/appnotes/3078/3078Fig02.gi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610240" cy="30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1182600" y="2017800"/>
            <a:ext cx="777240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and ea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Fast for point-to-poi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Easily allows streaming/Constant data in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No addressing/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one supports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S makes multiple slaves very compl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nowledgement 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herent arbi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Serial Encoders/Decoders, Converters, Serial LCDs, Sensors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-SPI serial de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PC implements SPI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bus of choice for communicating with small peripher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182600" y="2017800"/>
            <a:ext cx="7772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 – 4 wire serial bus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MOSI MISO SS SCLK w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laves, One ma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for point-to-point streaming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ily Sup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182600" y="2017800"/>
            <a:ext cx="777240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spcBef>
                <a:spcPts val="7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7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information and sourc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esigning Embedded Hardwa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y John Catsoul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roduction to Serial Peripheral Interface” by David Kalinsky and Roee Kalinsky (Embedded.com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gramming Embedded System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y Michael Barr and Anthony Mas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I - Serial Peripheral Interface” at http://www.mct.net/faq/spi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kipedia.org – Serial Peripheral Interface B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451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Serial Peripheral Interface (SPI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 / Cons and Competi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886200" y="4952880"/>
            <a:ext cx="4444920" cy="1384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3962520" y="6019920"/>
            <a:ext cx="2884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upload.wikimedia.org/wikipedia/commons/thumb/e/ed/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I_single_slave.svg/350px-SPI_single_slave.svg.png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I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29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ial Bu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, Easy to use, 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one supports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2639880" cy="197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2014560" cy="1981080"/>
          </a:xfrm>
          <a:prstGeom prst="rect">
            <a:avLst/>
          </a:prstGeom>
          <a:ln w="0">
            <a:noFill/>
          </a:ln>
        </p:spPr>
      </p:pic>
      <p:sp>
        <p:nvSpPr>
          <p:cNvPr id="109" name="Line 12"/>
          <p:cNvSpPr/>
          <p:nvPr/>
        </p:nvSpPr>
        <p:spPr>
          <a:xfrm>
            <a:off x="2895480" y="4800600"/>
            <a:ext cx="28958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13"/>
          <p:cNvSpPr/>
          <p:nvPr/>
        </p:nvSpPr>
        <p:spPr>
          <a:xfrm>
            <a:off x="2971800" y="5029200"/>
            <a:ext cx="2819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2971800" y="53341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15"/>
          <p:cNvSpPr/>
          <p:nvPr/>
        </p:nvSpPr>
        <p:spPr>
          <a:xfrm flipH="1" flipV="1">
            <a:off x="2895480" y="5638680"/>
            <a:ext cx="28958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I Bas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1182600" y="2017800"/>
            <a:ext cx="77724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munication protocol using 4 w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lso known as a 4 wire 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to communicate across small distanc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laves, Single Ma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pabilities of SP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182600" y="201780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ways Full Duplex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ommunicating in two directions at the same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mission need not be meaning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Mbps transmission spe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ers data in 4 to 16 bit charac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la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aisy-chaining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toc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182600" y="2017800"/>
            <a:ext cx="7772400" cy="46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Master Out Slave In (MOSI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Master In Slave Out (MISO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ystem Clock (SCL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lave Select 1…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 Set Slave Select 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 Generates C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ft registers shift in and ou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4248000" y="762120"/>
            <a:ext cx="489600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res in Detai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182600" y="2017800"/>
            <a:ext cx="777240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I – Carries data out of Master to Sla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O – Carries data from Slave to Ma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oth signals happen for every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_BAR – Unique line to select a sla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LK – Master produced clock to synchronize data 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5029200" y="685800"/>
            <a:ext cx="378468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ifting Protoc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Group 2"/>
          <p:cNvGrpSpPr/>
          <p:nvPr/>
        </p:nvGrpSpPr>
        <p:grpSpPr>
          <a:xfrm>
            <a:off x="1219320" y="2133720"/>
            <a:ext cx="6399000" cy="2558880"/>
            <a:chOff x="1219320" y="2133720"/>
            <a:chExt cx="6399000" cy="2558880"/>
          </a:xfrm>
        </p:grpSpPr>
        <p:pic>
          <p:nvPicPr>
            <p:cNvPr id="125" name="Picture 3" descr=""/>
            <p:cNvPicPr/>
            <p:nvPr/>
          </p:nvPicPr>
          <p:blipFill>
            <a:blip r:embed="rId1"/>
            <a:stretch/>
          </p:blipFill>
          <p:spPr>
            <a:xfrm>
              <a:off x="1219320" y="2133720"/>
              <a:ext cx="6399000" cy="25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4"/>
            <p:cNvSpPr/>
            <p:nvPr/>
          </p:nvSpPr>
          <p:spPr>
            <a:xfrm>
              <a:off x="1219320" y="2133720"/>
              <a:ext cx="6399000" cy="25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" name="Text Box 5"/>
          <p:cNvSpPr/>
          <p:nvPr/>
        </p:nvSpPr>
        <p:spPr>
          <a:xfrm>
            <a:off x="1297440" y="4876920"/>
            <a:ext cx="621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shifts out data to Slave, and shift in data from Sla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upload.wikimedia.org/wikipedia/commons/thumb/b/bb/SPI_8-bit_circular_transfer.svg/400px-SPI_8-bit_circular_transfer.svg.png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3276720" cy="26035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685800" y="5029200"/>
            <a:ext cx="3505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and multiple independent slav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upload.wikimedia.org/wikipedia/commons/thumb/f/fc/SPI_three_slaves.svg/350px-SPI_three_slaves.svg.png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876920" y="457200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and multiple daisy-chained slav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ttp://www.maxim-ic.com/appnotes.cfm/an_pk/3947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952880" y="42670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ome wires have been renamed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4038480" y="2438280"/>
            <a:ext cx="4981680" cy="189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EN</dc:creator>
  <dc:description/>
  <dc:language>en-US</dc:language>
  <cp:lastModifiedBy>WinXP</cp:lastModifiedBy>
  <dcterms:modified xsi:type="dcterms:W3CDTF">2013-02-06T10:41:28Z</dcterms:modified>
  <cp:revision>10</cp:revision>
  <dc:subject/>
  <dc:title>Serial Peripheral Interface</dc:title>
</cp:coreProperties>
</file>